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A7D1-59C9-4FAD-AE9B-7B04B2D62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FC6E-9C82-40F5-A538-2ACAF68A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96F6-75B4-4C34-A966-78E4D0E0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C8A1-51B2-40CA-8F0E-1072139D0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702E-55BE-4C42-A840-8A529089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CA9C-8833-495B-80FF-650CB716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1976-73FB-4E24-ADD2-98EBAAA1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BFF9-8022-4716-87AE-1E0D645F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AF77-8820-4FF7-94AC-8219C2D8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7A3B-9A44-48D4-AD8B-B33E2F09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FCC0-3CA6-45A6-8D7A-382D6F19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BCEE-AB9D-4AE1-965A-AF867BB9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1F77-2994-4CFB-953E-7D48730C7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D467-218C-48C0-A17D-D5BDE3FF54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Membership Query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Type=17) – запрос о наличии в сети членов групп. Запросы обо всех имеющихся группах – общие запросы – отправляются по адресу 224.0.0.1 ("всем узлам"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Membership Repor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Type=22) – уведомление о наличии в сети члена группы (отправляется хостом – членом группы по адресу группы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Leave Grou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Type=23) – уведомление об отсоединении хоста от группы (отправляется отсоединившимся хостом по адресу 224.0.0.2 – "всем маршрутизаторам"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Типы IG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ооб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9788-8F86-45BE-84BF-F87055FB17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Веерная рассылка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– наиболее простой метод маршрутизации групповых дейтаграмм, при котором дейтаграмма рассылается во все сети системы независимо от наличия в той или иной сети членов группы. При поступлении групповой дейтаграммы маршрутизатор проверяет, впервые ли он получает эту дейтаграмму. Если да, то маршрутизатор рассылает дейтаграмму через все свои интерфейсы, кроме того, с которого она была получена. Иначе дейтаграмма игнориру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Веерная рассылка (Floo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33E8-2E5E-4682-AB39-FADBF6B7D8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Остовые деревья (Spanning Tre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87850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5995-4C25-4E0A-8F39-A749109A29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RPF (Reverse Path Forwar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98560" y="728640"/>
            <a:ext cx="540252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7702-9C20-4A49-B789-6A4328B5F1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CBT (Core Based Tre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763640" y="765000"/>
            <a:ext cx="530244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71BD-8EBC-46BE-B236-328CA36D5A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ротокол DVMR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Distance Vector Multicast Routing Protocol) – самый старый протокол групповой маршрутизации, он используется в ядре экспериментальной сети MBONE. Протокол работает по технологии RPF с усечением, но для построения деревьев используется собственный дистанционно-векторный протокол, аналогичный протоколу R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4. Протоколы маршрутизации групповых дейта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52FF-3004-4F42-8ED0-13A29E2DB1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ротокол MOSPF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Multicast OSPF) является расширением протокола OSPF. Маршрутизатор, поддерживающий это расширение, устанавливает бит "М" в поле "Options" сообщения "Hello". В базе данных состояния связей вводится дополнительный тип записи: для указанной сети перечисляются все группы, члены которых есть в этой сети. Эти записи, как и все прочие записи базы данных состояния связей, распространяются по системе сетей с помощью протокола веерной рассы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Протоколы маршрутизации групповых дейта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7806-B7A3-424D-932B-BB0AA85048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IM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Protocol Independent Multicast) – два протокола групповой маршрутизации (для плотного и разреженного расположения членов групп, соответственно dense mode и sparse mode), не зависящие от используемого протокола "обычной" маршрутиз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IM DM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PIM Dense Mode) используется в системах сетей с большой плотностью получа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Протоколы маршрутизации групповых дейта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408F-E091-4670-A387-7E848B360E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IM SM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Protocol Independent Multicast, Sparse mode, RFC-2362) применяется для маршрутизации дейтаграмм для малочисленных групп, члены которых находятся далеко друг от друга (в этом случае недостатки метода RPF с усечением становятся существенным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Функционирование протокола можно кратко описать как метод CBT, переходящий в RP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Протоколы маршрутизации групповых дейта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7167-4D7A-41F2-AACF-A0F8255B90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Применение того или иного протокола групповой маршрутизации существенно зависит от того, плотно или разреженно расположены получатели группового трафика. Для плотного расположения годятся протоколы DVMRP, MOSPF и PIM DM; для разреженного подходят PIM SM и CB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Обсу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8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Мультикастин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ff"/>
                </a:solidFill>
                <a:latin typeface="Tahoma"/>
              </a:rPr>
              <a:t>Вопросы для самопроверки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Укажите основную проблему в задаче передачи мульти­кастингового траф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 чем состоит отличие случаев редкого и плотного расположения получателей мультикастинговых дейтаграмм с точки зрения методов их маршрутиз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кой протокол используется для отправки IP-дейтаграмм множеству хостов в се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кие адреса, назначены для использования мультикастинг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кой основной недостаток использования групповой рассылки на транспортном уров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то такое веерная рассыл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то такое PIM S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Williamson B. "Developing IP Multicast Networks, Volume I". – Cisco Press,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1) Основные сведения о мультикастинг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2) Протокол IGM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3) Маршрутизация групповых дейтаграм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4) Протоколы маршрутизации групповых дейтагра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F356-1FA2-43C1-8694-1A4179BEAE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Мультикастингом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multicasting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называется рассылка дейтаграмм группе получателей. Для идентификации групп используются специальные адреса получателя; эти адреса назначаются из класса D в диапазоне 224.0.0.0 – 239.255.255.25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ейтаграмма, направленная на групповой адрес, должна быть доставлена всем участникам группы. В дальнейшем в этой главе такие дейтаграммы мы будем называть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групповыми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. Основные с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85DB-62DE-49FA-9B17-6489AF0EF5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1 – все узлы в данной се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2 – все маршрутизаторы в данной се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5 – все OSPF-маршрутизатор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6 – выделенные OSPF-маршрутизатор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9 – маршрутизаторы RIP-2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10 – IGRP-маршрутизатор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1.1 – получатели информации по протоколу точного времени NT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Зарезервированные групповые адре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5E20-7EBA-4AEB-AD39-0C82D615BE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Для организации IP-сети с поддержкой мультикастинга необходимо следующее (RFC-1112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поддержка мультикастинга в стеке TCP/IP расположенных в сети хост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поддержка групповой или широковещательной рассылки на уровне доступа к с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5439-C2DA-47A3-A69A-82A7B36CA9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ротокол IGM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Internet Group Memebership Protocol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предназначен для регистрации на маршрутизаторе членов групп, находящихся в непосредственно присоединенных к нему сетях. Имея эту информацию, маршрутизатор может сообщать другим маршрутизаторам (с помощью протоколов групповой маршрутизации) о необходимости пересылки ему дейтаграмм для тех или иных груп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. Протокол IG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9AC3-BA40-44D0-8299-F36FC03582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GMP работает непосредственно поверх протокола IP, и идентифицируется значением 2 в поле "Protocol" заголовка IP-дейта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B12A-CD56-4CA7-95DF-593961A14D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2133720"/>
            <a:ext cx="8424720" cy="406692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Typ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8 бит) – тип сообщ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Max Response Ti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8 бит) – максимальное время отклика, задествовано только в сообщениях типа Membership Que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Checksum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(16 бит) – контрольная сум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Group Addres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32 бита) – групповой IP-адре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ообщение IG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58920" y="907920"/>
            <a:ext cx="846108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54:27Z</dcterms:modified>
  <cp:revision>167</cp:revision>
  <dc:subject/>
  <dc:title>Lecture Template </dc:title>
</cp:coreProperties>
</file>